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730D-7E44-4BFA-B75F-5CF4B20ED5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ightn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ning transfers electrons from the atmosphere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build up in clouds because wind causes them to ru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gether (Charging by friction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in the clouds push the negative charges in the ground away leaving positive charges on the surface (Charging by induc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enough negative charge builds up in a cloud, it repels so strongly (second Law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harges) that it jumps through the air (an insulator) and strikes the positive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d ground or the nearest object (first Law of Electric Charg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ightn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 transfers electrons from the atmosphere to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build up in clouds because wind causes them to ru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gether (Charging by friction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charges in the clouds push the negative charges in the ground away leaving positive charges on the surface (Charging by indu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enough negative charge builds up in a cloud, it repels so strongly (second Law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harges) that it jumps through the air (an insulator) and strikes the positiv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d ground or the nearest object (first Law of Electric Charg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igure shows how a lightning rod can protect a house from a lightning strik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l rod is attached to the highest part of the building.  A conductor is connected from the metal rod to a metal plate in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ning strikes the rod, the conductor carries the negative charges safely into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ning R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igure shows how a lightning rod can protect a house from a lightning strik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al rod is attached to the highest part of the building.  A conductor is connected from the metal rod to a metal plate i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ghtning strikes the rod, the conductor carries the negative charges safely into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 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C2AF-9C98-4A3D-8913-EBDEDBCE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E85-246C-459D-B21E-42BA5A98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0929-B91C-4742-A602-2ECD851F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5C49-DB2B-45E1-BB24-B978A77A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C31-D512-46EB-885E-115C05EF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5E3-FCDB-4216-A49C-FB2C1B3D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A34-E08C-4E6B-8C98-18E07E99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D940-48BE-417F-B84B-779EE9F8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563-9718-4EE5-8211-88FF1FDC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492-6BB5-468F-B197-57BBF51C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2320-FD97-46F6-87EA-D37FF9D7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3B6-C6DB-43CE-8746-1BF08803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D250-ED08-41A6-A31F-08CF80222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w Lightning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Works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MPj04004600000[1]"/>
          <p:cNvPicPr/>
          <p:nvPr/>
        </p:nvPicPr>
        <p:blipFill>
          <a:blip r:embed="rId1"/>
          <a:stretch/>
        </p:blipFill>
        <p:spPr>
          <a:xfrm>
            <a:off x="5029200" y="15228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822240" y="1865160"/>
            <a:ext cx="329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08000" y="2438280"/>
            <a:ext cx="90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Lightning transfers electrons from the atmosphere to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ons build up in clouds because wind causes them to ru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gether (Charging by friction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e negative charges in the clouds push the negative charges in the ground away leaving positive charges on the surface (Charging by induc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Once enough negative charge builds up in a cloud, it repels so strongly (second Law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ic Charges) that it jumps through the air (an insulator) and strikes the positiv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harged ground or the nearest object (first Law of Electric Charg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N00110.wav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17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lgtng-hits-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ightnin"/>
          <p:cNvPicPr/>
          <p:nvPr/>
        </p:nvPicPr>
        <p:blipFill>
          <a:blip r:embed="rId1"/>
          <a:stretch/>
        </p:blipFill>
        <p:spPr>
          <a:xfrm>
            <a:off x="609480" y="271440"/>
            <a:ext cx="815364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43400" y="1066680"/>
            <a:ext cx="464832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517680" y="1103400"/>
            <a:ext cx="374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is figure shows how a lightning rod can protect a house from a lightning strik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 metal rod is attached to the highest part of the building.  A conductor is connected from the metal rod to a metal plate in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If lightning strikes the rod, the conductor carries the negative charges safely into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Lightning R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j038110.wav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8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une14tower.wmv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4183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9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ncl-041004a.wmv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9279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4:33:01Z</dcterms:created>
  <dc:creator>Demetrios Xeroulis</dc:creator>
  <dc:description/>
  <dc:language>en-US</dc:language>
  <cp:lastModifiedBy>RomaK</cp:lastModifiedBy>
  <dcterms:modified xsi:type="dcterms:W3CDTF">2015-09-03T12:29:56Z</dcterms:modified>
  <cp:revision>18</cp:revision>
  <dc:subject/>
  <dc:title>How Lightning Works  </dc:title>
</cp:coreProperties>
</file>